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63A7-AE43-4AB9-A4A4-1228A6A3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B28-1DCD-4BDD-A28F-44C10953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6D0E6-20F4-4F9E-91FC-EAD6401E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9AEBD-6C2D-4EAF-B678-D23101BE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58860-E87B-4FBC-88C7-265A51FB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565F6-34B3-4713-9E1A-3C89A23F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8785F-7C51-42B1-A67D-BD336EAE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65B28-4504-4D65-A5C7-F6E7563B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A7752-D259-45E5-989D-5E4CECDD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B6E62-39B7-4F51-B92F-219E1307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5B679-77EB-4394-ACB7-1B6265F7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A1C5D-7B31-4D4A-895F-BDB8548A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A19-21A7-4E76-96C6-6FAE48DF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41E9F-1EEC-40FC-8741-44A367C8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FAD81-6479-4C5E-8D40-D8D4F969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EB39E-BF97-469B-A485-5ABB9150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4361E-EC6D-4ACB-B467-EBBA1CD2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FC900-9383-460B-B12B-EF6F215A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F56AF-CFB7-45F5-8EB7-B653EA52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D00C0-4B06-41D0-9EEB-494919DB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FAA20-C507-4413-A215-91AC3752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1E5E2-53DB-4367-BC99-4CBF13C3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63C68-FD11-4092-9C00-6C1173E2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0A7-7CE4-4EAA-9E7A-677F1112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8DC34-1EF7-467E-954C-2F9C92BD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CE4D3-DCAD-4C01-8DB2-90A5E936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05DA4-3F5C-4549-8811-15401010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BBE1E-D8F8-462E-AB1E-8C19880D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11551-4C43-4246-A50E-573B6937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DAF8F-451F-4625-A5C9-06780E04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157AA-F5ED-4BA9-B1E4-00C1DFB6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475EF-1751-431B-B57C-748481FF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1BF67-0DB0-4C18-918C-2DD71B10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C7A1C-E566-46E6-8A79-A9C14A78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BD46-44CA-46AA-B9B6-527B982E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EABBD-F526-44D2-B96A-A183E1B7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E01B2-E22B-4CBE-936D-99F70E24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A3888-9B0F-4E91-BBF7-993C03F5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F7CA4-2DD8-436F-B405-EA4BD7C0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4EFCB-AB29-4659-BE9D-D17AD7D0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AAB6B-6832-43A2-9586-56FF63EE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37F02-2864-4246-BFD1-A599E816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C3598-10B7-4086-99B0-5E436DA3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FB654-2FFB-4701-9478-5ABBCA24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4FCB9-00EB-4CB6-987C-57C7DA71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D5A6-88FF-4715-8C59-7A31C3EF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82567-BEAA-4288-8301-34F29DE5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7D7C3-3586-42A3-BEB7-28B7384A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2E7B4-42A9-45EC-B97D-C4036FC9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5C578-EADE-4731-A017-6F86207B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AA6A1-F0FB-41EA-9ACC-4C4D4ABB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EF8B-721B-4BD9-974D-36B34298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8E75-80CD-4EA2-B2CD-A5E7E3E7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104F-808B-4FCE-939E-A1D62F71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2160-5A0A-42DB-9FD1-482E29B0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D7C9-3679-4282-B95C-39C78FAC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703-79DD-4DCF-AE91-9DF72AC0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9908-8D38-40DB-868B-14EAC807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5027-1873-4C85-A02F-F2C480F5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E047-3780-4BD9-BD62-8B3DAA10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FE4E-F530-40E2-B63B-632B5191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AF6C-0AA3-4D29-A954-883D7380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F4BEB-C710-4712-9539-EA8E0C40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9B1E6-7EC0-4D67-BE92-384F3223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01F68-B15A-4CD8-912B-9EB32F7E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D5580-E005-4234-AE41-BFA9914B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0330F-8E28-47C4-830C-5734A282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1F2-3A02-44DA-93C1-C9A3E53A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1576F-95D7-4524-8ADB-A3DEBBA7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B373C-3111-452E-BFC2-A9D36C73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C0D88-A31A-41BA-A29D-F5F5CAEC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00BF-B981-4AFD-BD72-14FD863D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75940-8F2B-49E7-A3A0-20CF7649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CFB67-4F80-44F2-BA24-C2BE7102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2412A-771A-46A4-82AB-81CED488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A7B35-9696-49E9-9EB2-71154DE1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72FD6-73DA-466C-92E4-1517ADF1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D3EA6-2C48-44CE-8436-3739275E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1EC-5EB9-4969-B4F5-1F1DC39A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2C721-0D60-449E-9ED8-F77BB7D0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810CB-7D9E-4DEF-848D-4C3D3593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5BE71-712C-4A69-B6DC-B60C5F65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DD110-51B6-4523-8533-C126790A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64EC7-B41A-4AB0-BAD9-231D8D3F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1238A-A179-46C0-BFA9-B1D79BA7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836BC-B7B1-4327-A5E9-11A3456E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6FE2C-AE28-49B2-8C72-74250543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61A4F-544C-4B0B-8D91-1BEF4EEA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18CE1-9FD8-4BBC-A7E9-22986C7D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90D7-A677-43C4-A78A-48F5A414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374C7-75CE-4F54-B65A-AC43168C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E9739-7054-4A28-8293-FB9365BA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8D275-7CC4-4632-ADE2-0E2DB57F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8E049-C414-4CF0-8675-DB19E411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BC535-5B53-4A12-A699-ACF77CB9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82B9C-4CBC-4443-8D36-E38B0AA1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85576-4149-4A1C-86E8-3B758AA0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8355A-5A91-43E3-82DB-005544A2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5FCC2-5900-47CE-8337-5ACB68BE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330DA-2888-494D-9F5E-51CF22E8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7560-5FD2-4C67-AADA-B52F38F7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34802-1A4B-4962-86C6-33DCD5A8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FBA95-4522-4804-A696-4FCF9898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7B733-3BCF-4038-8193-2E639F17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EB4EC-CE46-4D45-BD02-38B60A09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B6FAD-AFCB-4777-8A4B-D2A70AD2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83141-560D-4108-AAEC-C3289ADF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BB6B7-70D6-477E-82EC-9EE5C521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B6844-82C1-4728-B6B6-F49B1D00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251CF-3929-4A0B-8399-2203FAF2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6176D-6FBC-479F-BD4F-1CD8F9E7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9384-BED5-49A1-B9A5-DCA93B37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47DC6-88D5-4628-B0D0-3BF31330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74CA0-2FE4-4352-B562-87CD3012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6FDC9-8591-478B-ADA0-0D1DF25D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2386F-E75F-46CA-92C4-36982A58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6191D-64ED-4F96-B7FC-0BFAE4DC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3451C-4857-4F7B-8F1B-03AC0EB9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F1D78-7801-4EBA-9868-B78343DE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706B4-D768-4FC2-B084-A62C169F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22255-1479-46DB-9BCD-3D76BF7C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DE5E6-38F2-4E78-A00E-3DC07A81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2EEF-C994-481F-8AD0-B8DDB34F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ABB5A-5DBA-41A1-B4C1-073B78A8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7CCD4-AE9B-4B74-ADD8-3909C3C5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63DFD-9130-4C46-8D4D-28620CED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F15A8-1030-4969-AAAF-9833F74D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D9849-0287-4782-852D-03A61C15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00352-C999-4EE0-B18D-7B239B65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06785-44E7-4F06-91B5-DED2ECF7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7A049-45BB-4E42-8EAD-78BB592E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ABFCD-01CE-4940-B129-E2C8CE2B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4A4FE-4B7A-41F2-82D8-B6D56431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EBC6-6E72-4D60-B104-B886B2C9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29433-103A-419A-A70B-D4C87B9C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DEBBD-62F0-4323-9264-B222289A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CE2BD-7AC8-4034-BD18-CBB892DC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D568A-B418-4BCB-92EB-77FCD46D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2E37D-83FC-421C-950B-41FC6C1B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04D15-C7CE-4685-936A-89767DDC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CA478-92B4-4E2F-8ACC-275F784D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CC658-A06F-46F3-B736-4A261775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7B66F-82C1-476A-99C9-4281F5C8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26051-9151-40EF-A345-6140CC2C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81CF-5CA4-4A2B-8F19-3D2D0FE397A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E3FF-94B0-4DBB-9051-CF25030FD2F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BA96-574A-4FBD-BB1D-0DE0C30E9F7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C519-4077-483C-BA9F-0162EB1707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B8EC-EA78-4ECA-92D6-BB4D51D5BED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2D47-CC31-4095-AC7F-A2F7576EB01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6A6D-A37B-4E5E-993F-B71A27A619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0D2F-A282-4DF5-AC4C-5AB548287F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7163-6F46-4EEE-B2F5-4182A832A9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D356-EFC5-4FCD-9A37-9D2471EF76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ED17-A788-4347-A885-865E157CBE7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9266-2AD2-4716-B5C1-6DCEDCE3847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79 Vzácnym chlebom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vot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zácnym chlebom živo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ýť vždy hladné duše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v nás láska, dobro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ocou tvojho Ducha pl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tebe prameň spásy m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a teba sa spoliehame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ami schopnosť nemá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obre myslieť, vravieť, rob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ým ti ruku ned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by si nás mohol vod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ým nám myseľ neosvie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Tešit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náš, Duch tvoj Svätý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dblesk slávy Otcov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pása sveta od večn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aj, nech srdcia hotové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ítajú ťa v úprimnos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nech Slovo, čo dnes za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prinesie nám p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hnani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2:58:45Z</dcterms:modified>
  <cp:revision>23</cp:revision>
  <dc:subject/>
  <dc:title>Je veľký náš Pán, on slávy je Kráľ Nech do všetkých strán  spev vrúcnych znie chvál.</dc:title>
</cp:coreProperties>
</file>